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A3B-FAB5-48BC-8CB9-898BDBE3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8B9-B289-43AB-A9EE-62567C6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CA2-57CA-4FB2-86F3-300A070E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EA9-A0CF-443D-9340-85A6181A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121-5ED4-4279-B81A-DBAAB849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C81-4EFC-456E-ABC9-6ABC482B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AC5-A4D7-43DD-AF3D-DD991936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0D1-9235-4ECB-A9BE-CB0B6FFE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580-6BEF-4FF4-93CB-EF85A0A9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DBF-83ED-4389-8013-BB171E55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ADB-2275-4AF8-9855-28FA0373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6B4-231E-45CF-B90F-9D45D15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0117-26D5-4C6E-9022-16FE39D65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 that always has exactly the same fixed, uniform composition (or what it is made of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609480" y="1460520"/>
          <a:ext cx="832824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60520"/>
                    <a:ext cx="83282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terogene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e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ogen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rShape1"/>
          <p:cNvSpPr/>
          <p:nvPr/>
        </p:nvSpPr>
        <p:spPr>
          <a:xfrm rot="10800000">
            <a:off x="1224000" y="2155680"/>
            <a:ext cx="216000" cy="2160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quid to ga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ill liquid, just in differen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6002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rumbling piece of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licing to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observed or measured without changing the composition (made of) of the substances is a physic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609480" y="2133720"/>
          <a:ext cx="863280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6328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rShape1"/>
          <p:cNvSpPr/>
          <p:nvPr/>
        </p:nvSpPr>
        <p:spPr>
          <a:xfrm rot="10800000">
            <a:off x="1137960" y="24285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of a material to allow heat/electricity to flow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1148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CorShape1"/>
          <p:cNvSpPr/>
          <p:nvPr/>
        </p:nvSpPr>
        <p:spPr>
          <a:xfrm rot="10800000">
            <a:off x="223560" y="29113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io of the mass of a substance to it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TPChart"/>
          <p:cNvGraphicFramePr/>
          <p:nvPr/>
        </p:nvGraphicFramePr>
        <p:xfrm>
          <a:off x="533520" y="1460520"/>
          <a:ext cx="873432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60520"/>
                    <a:ext cx="87343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7160" y="159984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rShape1"/>
          <p:cNvSpPr/>
          <p:nvPr/>
        </p:nvSpPr>
        <p:spPr>
          <a:xfrm rot="10800000">
            <a:off x="1163520" y="174276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reasons we use physical proper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TPChart"/>
          <p:cNvGraphicFramePr/>
          <p:nvPr/>
        </p:nvGraphicFramePr>
        <p:xfrm>
          <a:off x="609480" y="1473120"/>
          <a:ext cx="865836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73120"/>
                    <a:ext cx="865836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dentify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substances in a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rShape1"/>
          <p:cNvSpPr/>
          <p:nvPr/>
        </p:nvSpPr>
        <p:spPr>
          <a:xfrm rot="10800000">
            <a:off x="1224000" y="3031920"/>
            <a:ext cx="2160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separation of a substance in solution based on boil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380988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CorShape1"/>
          <p:cNvSpPr/>
          <p:nvPr/>
        </p:nvSpPr>
        <p:spPr>
          <a:xfrm rot="10800000">
            <a:off x="609480" y="236196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hysical change is when some of the properties of a material change into new and totally different substances, but they look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685800" y="2362320"/>
          <a:ext cx="883620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88362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2514600"/>
            <a:ext cx="822960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rShape1"/>
          <p:cNvSpPr/>
          <p:nvPr/>
        </p:nvSpPr>
        <p:spPr>
          <a:xfrm rot="10800000">
            <a:off x="1214280" y="324288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two categories of pure subst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TPChart"/>
          <p:cNvGraphicFramePr/>
          <p:nvPr/>
        </p:nvGraphicFramePr>
        <p:xfrm>
          <a:off x="533520" y="1473120"/>
          <a:ext cx="87343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3120"/>
                    <a:ext cx="87343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97160" y="159984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and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rShape1"/>
          <p:cNvSpPr/>
          <p:nvPr/>
        </p:nvSpPr>
        <p:spPr>
          <a:xfrm rot="10800000">
            <a:off x="1193760" y="326844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correct example of a heterogeneous mix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TPChart"/>
          <p:cNvGraphicFramePr/>
          <p:nvPr/>
        </p:nvGraphicFramePr>
        <p:xfrm>
          <a:off x="762120" y="1460520"/>
          <a:ext cx="85057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60520"/>
                    <a:ext cx="85057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CorShape1"/>
          <p:cNvSpPr/>
          <p:nvPr/>
        </p:nvSpPr>
        <p:spPr>
          <a:xfrm rot="10800000">
            <a:off x="1193760" y="224280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hield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in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ogenous mixture formed when substances dissolve is a(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TPChart"/>
          <p:cNvGraphicFramePr/>
          <p:nvPr/>
        </p:nvGraphicFramePr>
        <p:xfrm>
          <a:off x="4038480" y="13716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rShape1"/>
          <p:cNvSpPr/>
          <p:nvPr/>
        </p:nvSpPr>
        <p:spPr>
          <a:xfrm rot="10800000">
            <a:off x="512640" y="3031920"/>
            <a:ext cx="2160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negar and oil is an example of a(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609480" y="1447920"/>
          <a:ext cx="91411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91411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rShape1"/>
          <p:cNvSpPr/>
          <p:nvPr/>
        </p:nvSpPr>
        <p:spPr>
          <a:xfrm rot="10800000">
            <a:off x="1193760" y="173016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oid contains some particles that are medium in size between the smaller particles in a solution and the larger particles in a susp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TPChart"/>
          <p:cNvGraphicFramePr/>
          <p:nvPr/>
        </p:nvGraphicFramePr>
        <p:xfrm>
          <a:off x="533520" y="2514600"/>
          <a:ext cx="861048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61048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822960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rShape1"/>
          <p:cNvSpPr/>
          <p:nvPr/>
        </p:nvSpPr>
        <p:spPr>
          <a:xfrm rot="10800000">
            <a:off x="1137960" y="2885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1430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roperty = characteristics of a material that ca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e observed or measured without changing the composition of the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362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s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w a liquid flows/resist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il i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657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ility of a material to allow he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flow (electricity as w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495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eabil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ility of a solid to be hammered w/o breaking/shattering (most metals are malle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ness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ill 1 material scratch an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44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steel knife scratch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ood, but a sharpener manipulates the kn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2209680"/>
            <a:ext cx="7010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ing point/boiling point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emp at which substances change from a solid to a liquid (M.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.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emp at which substance bo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581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ratio of the mass of a substance to it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343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of Physical Prop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use physical properties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I.d. materials, choose materials or separate substances in a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roperties to separate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ltration –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eparation of materials based on the size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ir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rewing coffee—using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743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stillation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eparation of the substances in solution based on boiling 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5812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cess used 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vide fresh water in subma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962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ing physic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343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 change occurs wh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ome of the properties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material change, but substances in a materi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ay the same (atoms remain wh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8:55:14Z</dcterms:created>
  <dc:creator>Farwell Area Schools</dc:creator>
  <dc:description/>
  <dc:language>en-US</dc:language>
  <cp:lastModifiedBy>Customer</cp:lastModifiedBy>
  <dcterms:modified xsi:type="dcterms:W3CDTF">2009-10-06T01:50:02Z</dcterms:modified>
  <cp:revision>12</cp:revision>
  <dc:subject/>
  <dc:title>3.2 Physical properties</dc:title>
</cp:coreProperties>
</file>